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06DB-B5AA-4028-9C62-09E15E0BE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8502-242C-486D-BF7A-E5B344917D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4ED2-9CED-4E57-94B3-3D2F6C075B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521F-EFC8-476E-86EF-B5D40FB43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0CD5-4925-4D16-8AF0-5ADA9E53E6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92D-8A3B-4528-A950-55DEC7BD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D91-61C7-4D5D-9327-D002867A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5DF-85C9-4276-B4D3-51C0490C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6EA-83FC-4128-9D95-6152BF4B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5348-08E5-475F-96F4-AE14BD4A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4675-C205-4F8A-A36A-64F74ED2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277A-1100-4097-816D-CA450605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8B7C-1719-41D8-B066-A9D0C666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B442-0322-451B-9E0D-1B85E3D9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49E5-3980-4F35-95B3-3E95F97A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19E8-C169-4367-A314-EC737DC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506-E4B5-4E81-B37A-75A3E588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82A5-0AE9-474D-9FDD-66ED3A42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F4B8-5A98-4D7C-8A07-34B4E478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3084-DA54-44D6-BCEA-222D8E19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5788-C295-4B49-AB2B-F1153548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CBC2-FD6E-441E-8E0C-B9E2D78A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4B7-D3F3-413E-AFF8-7CD32122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A3F-6802-4CCD-B918-F1D84C42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356-E759-46E6-8629-5FD25CE2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78D-D954-43BA-AC87-CE42C569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C7D-C95A-4C3B-B79A-D7F8A5C6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ABF-6934-4654-A175-73DEA17B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2E9-41F7-4001-B369-F9D9D994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690D-9040-4A68-9CE6-C94AEB12D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7696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D087-872B-4D5F-982F-3F6E87A5B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54418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7696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81A0-EF84-4646-AB1C-2CEBC8E3C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77DD-2A25-4FDF-9AF0-05BEB3DB3244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4F74-5EC6-43B6-A0EE-059ED74AACF4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487520"/>
            <a:ext cx="807732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Verbs like “GUSTAR”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9328-938F-4C85-B9B2-D48DE035C4F3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Verbs like “GUSTAR”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85800" y="1676520"/>
            <a:ext cx="6858000" cy="369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418"/>
                </a:solidFill>
                <a:latin typeface="Arial"/>
              </a:rPr>
              <a:t>I like th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54418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= subject of sentenc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54418"/>
                </a:solidFill>
                <a:latin typeface="Arial"/>
              </a:rPr>
              <a:t>the books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= direct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418"/>
                </a:solidFill>
                <a:latin typeface="Arial"/>
              </a:rPr>
              <a:t>The books are pleasant to 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4418"/>
                </a:solidFill>
                <a:latin typeface="Arial"/>
              </a:rPr>
              <a:t>The books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= subject of sentence</a:t>
            </a:r>
            <a:br>
              <a:rPr sz="1800"/>
            </a:br>
            <a:r>
              <a:rPr b="1" i="1" lang="en-US" sz="1800" spc="-1" strike="noStrike">
                <a:solidFill>
                  <a:srgbClr val="354418"/>
                </a:solidFill>
                <a:latin typeface="Arial"/>
              </a:rPr>
              <a:t>me</a:t>
            </a:r>
            <a:r>
              <a:rPr b="0" i="1" lang="en-US" sz="1800" spc="-1" strike="noStrike">
                <a:solidFill>
                  <a:srgbClr val="35441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= indirect object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07E4-AF06-4FE1-8EA2-230F95FE53B2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Verbs like “GUSTAR”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1676520"/>
            <a:ext cx="6858000" cy="3507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418"/>
                </a:solidFill>
                <a:latin typeface="Arial"/>
              </a:rPr>
              <a:t>I like th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o gusto los libros (wr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418"/>
                </a:solidFill>
                <a:latin typeface="Arial"/>
              </a:rPr>
              <a:t>The books are pleasant to 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e gustan los libros. (right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840-33BE-4B6A-9358-8A35C1831117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Verbs like “GUSTAR”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080" y="1922400"/>
            <a:ext cx="6858000" cy="3964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4418"/>
                </a:solidFill>
                <a:latin typeface="Arial"/>
              </a:rPr>
              <a:t>The verb is conjugated to agree with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4418"/>
                </a:solidFill>
                <a:latin typeface="Arial"/>
              </a:rPr>
              <a:t>subject of the sent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Me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gustan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los libros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 like the books.)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672-D5C1-421A-901E-FEB4C66E283F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Verbs like “GUSTAR”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600200"/>
          <a:ext cx="7925040" cy="3789360"/>
        </p:xfrm>
        <a:graphic>
          <a:graphicData uri="http://schemas.openxmlformats.org/drawingml/2006/table">
            <a:tbl>
              <a:tblPr/>
              <a:tblGrid>
                <a:gridCol w="3673440"/>
                <a:gridCol w="425160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Singular Sub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Plural Sub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M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a cas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M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as casa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T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l cuart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T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os cuarto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Le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a sill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L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as silla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No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l hote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No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os hotel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Le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l reloj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Le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os reloj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u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3B95-D126-412B-B4D9-EBB6FB6696D6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UST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397160"/>
          <a:ext cx="8001000" cy="5305320"/>
        </p:xfrm>
        <a:graphic>
          <a:graphicData uri="http://schemas.openxmlformats.org/drawingml/2006/table">
            <a:tbl>
              <a:tblPr/>
              <a:tblGrid>
                <a:gridCol w="1406520"/>
                <a:gridCol w="1413000"/>
                <a:gridCol w="1600200"/>
                <a:gridCol w="1752480"/>
                <a:gridCol w="182880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ter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I 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b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ará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i 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b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ará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A él/ella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Ud. 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b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ará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sotros 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b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ará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A ellos/ell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Uds.l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b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ará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u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5:59:45Z</dcterms:created>
  <dc:creator>Jaime E Olalde</dc:creator>
  <dc:description/>
  <dc:language>en-US</dc:language>
  <cp:lastModifiedBy>elisenda.rasero</cp:lastModifiedBy>
  <dcterms:modified xsi:type="dcterms:W3CDTF">2010-09-30T09:19:01Z</dcterms:modified>
  <cp:revision>115</cp:revision>
  <dc:subject>Español 101</dc:subject>
  <dc:title>Presente Progresivo</dc:title>
</cp:coreProperties>
</file>